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32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wmf" ContentType="image/x-wmf"/>
  <Override PartName="/ppt/media/image4.png" ContentType="image/png"/>
  <Override PartName="/ppt/media/image21.png" ContentType="image/png"/>
  <Override PartName="/ppt/media/image19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  <p:sldId id="276" r:id="rId42"/>
    <p:sldId id="277" r:id="rId43"/>
    <p:sldId id="278" r:id="rId44"/>
    <p:sldId id="279" r:id="rId45"/>
    <p:sldId id="280" r:id="rId46"/>
    <p:sldId id="281" r:id="rId47"/>
    <p:sldId id="282" r:id="rId48"/>
    <p:sldId id="283" r:id="rId49"/>
    <p:sldId id="284" r:id="rId50"/>
    <p:sldId id="285" r:id="rId51"/>
    <p:sldId id="286" r:id="rId52"/>
    <p:sldId id="287" r:id="rId53"/>
    <p:sldId id="288" r:id="rId54"/>
    <p:sldId id="289" r:id="rId55"/>
    <p:sldId id="290" r:id="rId56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slide" Target="slides/slide21.xml"/><Relationship Id="rId43" Type="http://schemas.openxmlformats.org/officeDocument/2006/relationships/slide" Target="slides/slide22.xml"/><Relationship Id="rId44" Type="http://schemas.openxmlformats.org/officeDocument/2006/relationships/slide" Target="slides/slide23.xml"/><Relationship Id="rId45" Type="http://schemas.openxmlformats.org/officeDocument/2006/relationships/slide" Target="slides/slide24.xml"/><Relationship Id="rId46" Type="http://schemas.openxmlformats.org/officeDocument/2006/relationships/slide" Target="slides/slide25.xml"/><Relationship Id="rId47" Type="http://schemas.openxmlformats.org/officeDocument/2006/relationships/slide" Target="slides/slide26.xml"/><Relationship Id="rId48" Type="http://schemas.openxmlformats.org/officeDocument/2006/relationships/slide" Target="slides/slide27.xml"/><Relationship Id="rId49" Type="http://schemas.openxmlformats.org/officeDocument/2006/relationships/slide" Target="slides/slide28.xml"/><Relationship Id="rId50" Type="http://schemas.openxmlformats.org/officeDocument/2006/relationships/slide" Target="slides/slide29.xml"/><Relationship Id="rId51" Type="http://schemas.openxmlformats.org/officeDocument/2006/relationships/slide" Target="slides/slide30.xml"/><Relationship Id="rId52" Type="http://schemas.openxmlformats.org/officeDocument/2006/relationships/slide" Target="slides/slide31.xml"/><Relationship Id="rId53" Type="http://schemas.openxmlformats.org/officeDocument/2006/relationships/slide" Target="slides/slide32.xml"/><Relationship Id="rId54" Type="http://schemas.openxmlformats.org/officeDocument/2006/relationships/slide" Target="slides/slide33.xml"/><Relationship Id="rId55" Type="http://schemas.openxmlformats.org/officeDocument/2006/relationships/slide" Target="slides/slide34.xml"/><Relationship Id="rId56" Type="http://schemas.openxmlformats.org/officeDocument/2006/relationships/slide" Target="slides/slide35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"/>
          <p:cNvSpPr/>
          <p:nvPr/>
        </p:nvSpPr>
        <p:spPr>
          <a:xfrm>
            <a:off x="0" y="0"/>
            <a:ext cx="68004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dt" idx="2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 type="ftr" idx="22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6"/>
          <p:cNvSpPr>
            <a:spLocks noGrp="1"/>
          </p:cNvSpPr>
          <p:nvPr>
            <p:ph type="sldNum" idx="23"/>
          </p:nvPr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DBAA522-86D9-4DFD-A638-41CFC58FC1EA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Slide Number Placeholder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E203572-E73E-455C-AA04-1EF95BFC215A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Slide Number Placeholder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4552246-52ED-466F-9D64-CA1A738FDD14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23D3-D983-4585-942C-A6FC861ED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20A2-3878-4717-8048-AA23723F6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7748F9-4F2F-4081-8F95-428D6CE9B35B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9B9157-37ED-4547-85F2-EFA36B9C8294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84E62F-1EE9-4A63-97F6-9EF505923F74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4EA2CF-ADD0-43C5-9918-F71ABA97505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85B0F3-56D2-463C-A330-A61ED25015A7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FA93F5-B649-41C6-A213-075E90A913DA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81E63E-127F-4F0F-8D01-5475B1196FEE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740374-F363-4E4B-9A4D-D7505212F2B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CE0B3F-6A9D-42A4-8E1A-F1991F7FE46F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10E832-0479-4354-8991-3D1E9938F9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A104-B5EA-4360-B2A0-A6412F801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0AD378-7F43-4E28-9754-4C66FEB4F1D5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7B6D14-B3F5-4811-A719-014444EE82B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DE6703-F7CD-45EF-9A77-24AA29440303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6304D8-7E66-4A7F-A4F6-5B175799E4B8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9AC985-EDEA-400E-9E9D-1EFD894E8374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3FEB6F-0778-40A9-96AC-A5288B6BF87B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B2C22F-59A4-48FB-A33D-F45CA644E9C9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3BB7CD-0FA7-4603-984E-7BBEF9099A89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AA7029-DD29-47DB-985C-91077CA2891E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60A1F1-8D23-40D3-8B13-53244C9B8F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E151-2780-43D6-9D3F-52E6DD7C8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9A831F-4889-4C40-A65C-E6A77B2DAF07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4E362-3377-4FE9-9F92-6C781D4880A3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E8F4E-5DBE-4F10-A31A-6F623A061D3E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B66B2-A6EF-4181-A68E-4A9E4AD8D65E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53120-FB33-43E6-8B0F-4FC9779C0D91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D181E-00EB-40EA-8015-307A4A59D06F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39EBB-049E-482A-BDF5-24AD92FD53CC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B6468-2CEE-41B8-8349-153252712424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29583-8F0E-472A-A8A3-2B4B84E52BE2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B5524-47DB-4F73-BE55-D0E37D326E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D1C43-9A09-4038-9EF2-DC520E6CB32A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F3E63-FD47-4E27-A6A1-5DC6F114527A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DC236-6248-4952-8D87-B04B81140358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84C62FF-F611-40AE-A38C-A40724E10C83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3448205-DADF-4F53-B3C0-78511248C8A8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2CB53FF-D644-4467-B249-87E03CA74661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DC80769-71C1-470F-B32A-E99B41C24F8E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8187F3E-A990-4F7E-8471-8A07A25E2461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F02DB71-F6DF-4B5F-9AF9-B56D18EE9F70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D644785-21FF-4A5E-8C4C-09EE63BDEC4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361F098-38DD-4001-82B2-410F5DDDA6AC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7BC62AF-80A3-4C06-85AF-CE45B6A4C7B9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F0A0816-2E07-4AFA-AB56-151D2E5C1CA7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2206A2C-F541-4606-9784-3C07E9FBC4A0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E30720A-D2F6-4095-8433-7B7C93A01F6F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4C2BE4-F4DF-428B-811E-DAC93E6EA726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23C31B-EF50-4BCA-8417-D27AD72E6812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093BFB-9D16-4E5C-BB1D-1747F9B2FFF6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EB6CEC-696E-45EB-97D7-F2D0200AFD41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74472F-F55B-47E7-B780-CDAEE94A975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1A6E4C-9281-448B-8534-98C15268ABBD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33264F-64FD-4758-AC04-4C318ADF3409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429C42-2CF6-4764-8065-1A20FE90F7CE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B29B99-134D-4391-B542-C1D43AF8DCA6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47CE55-548A-4CF2-85FA-C4C48B7BBC84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898D64-4E5E-4EF3-BD06-53E969D477C1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22F580-B3A0-4477-A2DD-75B06EF69111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509BB6-A104-483E-A21B-47E7D2FE1329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700B84-1391-41F4-88A2-06355E506975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43E8A1-A45E-497E-A03D-B3C3F7A241C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3538A4-DCDF-4DA1-9794-1AB2BDD98423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911079-95D8-4A3E-98C5-8ED227ABFC76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A416A2-7210-4B8C-9E18-115927359EAB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78C67-9D8F-4F26-AFB3-4C238E8AB732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DAE2AA-DD5C-48DA-96A0-F5BA5A5B92DA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3FFF72-6B58-4519-A6A1-7E582803C778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8095A6-704D-4B73-BCE0-3BDD19540F53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CB81E6-3EF8-4196-AB1B-4FB0DAB3402B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206F32-6BD3-44D3-B793-5A6B7CD5F631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104DB9F-6345-4E3C-A10C-DA872D75346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2105773-8D6F-418C-939C-DC97D9FAB13E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642FD4A-3C70-400A-9241-143B74CEFC15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294CEB8-39FF-4FEF-B303-5D9B4F15CBDA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69799D0-395C-458E-86B4-33D3B28A4707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BA7ADD2-85F5-4CFE-A96B-2075905E4087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9F419C4-4C8A-4DAF-BDF4-E94478E082EF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0C9EB62-C272-4337-A1E3-D13E7C5F6946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3E6859B-9D48-489B-BA0B-15E19233B635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16EFBEC-41C7-41CA-8A78-00D01AA00041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530C8A2-E84B-49D7-8E51-730654D8B77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B2834FF-0DD6-4403-94E2-513B1E22D810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DD31DA-AAF9-4DD4-8883-0C1A9B07A8A2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57551B-F8EA-4167-9F61-2C757FA1970F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83A74D-EECA-4CCD-8534-090AF3D36D54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175DFD-6E85-41B2-856D-481975BA0516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EBB34A-936C-4D71-B0D1-B9804419C6CC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9932F5-3E8D-47BA-8149-D8AA21E8BB56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1249D9-8FBC-4308-91D2-889B6B461AD3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8D1BF3-5CDA-4A46-B5BE-E2F4E598084F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1A1BCB-3D1A-4EEF-9E76-A031ECB5F6C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296ECD-8F2C-4ED3-8638-393173A3BD35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B3B1AF-814C-482B-9131-CD4592C2B2A9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D69BF6-2D73-47E4-99EC-AA410BDEA512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CE6B-0BAA-40DD-96C4-F4CE81A44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7D6738-5B0F-4BA8-8D2F-29BBA6EE7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63B98D-EACF-40AD-B248-861412759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71CA16-FD8E-4237-AD7C-34B5C4B11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881267-3FE0-4E7E-B4A5-6C484A7D2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FC5759-C5E7-4677-8F78-F24B5847D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448C59-76EB-4156-8E3F-35F823864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246998-E497-4BF5-AA56-E75A70353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CFC1F5-6758-4977-A8EB-CCCA9CD17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15921D-E33B-4A09-839D-A2353D3E6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301252-38F8-425A-95C4-585D50027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D164BD-83F7-4377-91B1-2AE54092F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9CAA83-AA06-44ED-B5F5-627C70575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C10EE9-FD59-46BF-9FBA-2475FF1B983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063FD7-F213-4277-A2B5-7E338FCFAC3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44B1EC-43E0-4C3E-B33A-7A6170FDD0E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C11E4E-EEB3-439C-B3D4-8D16E0737A7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C310C7-7D04-4225-805D-660884A893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9B70-412C-45F8-B646-1D838254B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F1AB28-4455-4A6B-8290-661E00A4916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8274B0-7A1B-4141-8EA0-39090744E30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D05520-1B82-4132-9EA8-3CC834AA9F7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B54C27-BEED-409F-BCCA-C904193B4D9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42CFB9-EE46-4495-9F2B-AB5AB83A444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8B780F-CA1F-4B53-A0C4-4652D1CF487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54D6F2-3F07-46AD-A0C3-CE2146B849C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0EB581-07D9-4240-8DC9-090D363B675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020F1D-64E3-40E1-917A-B3A6FFD6E13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40B124-FE7D-4E48-85B1-934C6200D6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5534-8FF5-4C8B-B301-850C99DCD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AA3A6F-C16B-44E4-9CDE-F324CD5ED4B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20D4A2-95B1-4F5E-BAFD-CFFD3212310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227326-A2A6-4D7A-9C8D-F4077A55CFA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E109FA-B9D2-4BBB-89CF-857A67274BC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F8601A-7C80-49C0-B55F-5E9AE3C0A0B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71002B-1F02-497E-8C4F-DFBA532DE43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025ADF-9BF7-409B-BA4D-467E1CDAF57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DA97AC-18F2-4C27-98D5-2320C83B93B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ECB163-680B-4FD8-8D9A-23DB3EF2B76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096ED-1884-4B01-A6D6-149FAA25F0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0A64-1055-48D9-BEF7-80D5F788F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20BA2-C5C3-4980-912F-D4EDE2946A6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65157-9276-4CA3-BB1C-49DC834FA8A9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5F395-67E7-47ED-95E5-CD03DAB5542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FE495-F0FC-4057-88A6-C056155B508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11D88-F891-41BA-A83A-D8730BFB7FE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99925-369A-42E2-9A76-7EBF792441C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90933-13ED-4C33-86DF-217F0D90CBB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A77C0-E00F-44B4-AB30-2DDE88355B1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A8478-5948-4C2A-BBB9-1098223B711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DC2D3-2E8C-4F1A-B202-8E3A832F98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B9D1-D2FB-4B46-AFBB-49F6034E2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AF762-4C4C-44E7-82C2-D6A71EF0932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2A00A1-9444-428B-8383-529F5BB0360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D0F577-8649-4B03-98F8-7A4349FF4F5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A0349F-F48F-49C0-B9B9-D12D881ABFF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8CF319-61F6-4495-AF60-53257870C8C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42D4E5-EA06-49B8-AD37-43C2173A2BB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EE3FC4-990B-4C08-8DEE-348E56BA80C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57140B-78DA-40DE-8C3F-C93C227D21D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25B874-351B-49FD-8FF0-A25B36AD766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A21B2F-1FA0-43D4-948C-AACE4C54AF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25A0-004D-4157-8EBE-1266C50B0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5AFCAE-2000-4415-97A2-18B95B6D064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27939C-853C-4322-B622-F977746B3E1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6BCB79-15FC-40B7-AD0C-777930A78D3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8E7DA5-4014-4B70-94DD-1E2ADD03853C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300675-2C34-49AE-A6AF-7B96053E1AFC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28411C-A17F-498D-BB49-726BEEB305E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E8205E-B50E-4B50-BCE3-090A90D221D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541265-2B62-434B-95FB-458F4B3EB72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CFB593-24F9-47E5-A3F4-60A2D2AD33E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1F8B8F-016D-4264-AEEA-C9C0021407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13BF-0CA5-4715-AD89-1751D8FA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8BEA83-9CA6-4390-95BB-ED09AD617B30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0DCE49-FCBD-4139-84CD-810882C3876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094C43-071B-4AD3-84E0-A3BE7991550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CEF2D5-0429-47EA-9CA0-BD511C1E2C5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52D977-AE27-47C6-8E12-E96FCBF7B519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9F41A-1384-41BB-BCC6-3BFA08208AAE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79D20-A5EC-48CE-9734-7EDC7E444E2D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D216D-7974-4991-ACC1-6626FC310528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DBD8B-EB8B-4B22-9E6C-36BE2F28AC91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C8C7F-B685-4CBC-B6E7-EBB55D0709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3EF9-E1A8-4639-A8EB-E53B9E96C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D7E99-D080-4547-B15D-A7553F4A5374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13FEE-8E7A-486D-89BC-9D82F9646E8B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530BB-9C04-4103-B8AC-300E8CE88D42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C526C-FC17-4D6F-8960-E2E62F002DB5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EE84F-1A00-4F4E-BADF-061978ED37CB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14BDA-AFCD-4BDB-B3AF-CA856C16E1A2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419F2-45EC-495C-B8C2-CC86FD6A3F53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7F774A-3FED-4681-BF06-A973FE5910E5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06E4E1-5261-4F20-9827-06F40DE420E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0E8C15-ED6B-4C14-9700-409A572AF3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57566DE-6F30-4460-9241-FABDEB33DE26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9CB96BB-7F5E-48C1-AD63-652263A349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sldNum" idx="11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E65987B-913C-4E60-ABA3-E6B26719E66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sldNum" idx="12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89D4149-DCA4-4BC1-8DFB-58CFF0E43F3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sldNum" idx="13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B8A80D3-3EED-4DD5-8885-14E831FEFAC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Num" idx="1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0C7F57F-3E8E-474E-A2CE-1128996BBAE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sldNum" idx="1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D032F7B-46A6-4AA0-98C2-AD2EFEC017C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 type="sldNum" idx="1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E37CCD9-8062-4199-AD0D-4CF8F2A0546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sldNum" idx="1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63D8B95-3D57-4674-BC89-37C30951AD9E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8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8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1302785-E4B1-4839-BD1A-41C419547878}" type="datetime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86D7E5E-8E05-4C14-800E-84B19DBA9393}" type="slidenum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2563920" y="6629400"/>
            <a:ext cx="6586560" cy="246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"/>
          <p:cNvPicPr/>
          <p:nvPr/>
        </p:nvPicPr>
        <p:blipFill>
          <a:blip r:embed="rId4"/>
          <a:stretch/>
        </p:blipFill>
        <p:spPr>
          <a:xfrm>
            <a:off x="419040" y="6141960"/>
            <a:ext cx="1714680" cy="487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80D0867-E9A9-41D7-8A19-0057B3DF959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203F8EB-143E-49DF-B850-21356C5E9F34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6DE1550-C819-49A9-BEED-B9D1113749A6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Num" idx="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36A83B2-2CA6-4A1A-AB74-35A471FBD14B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Num" idx="8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6619610-9FB5-48C5-98D9-D7690AEE4D3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sldNum" idx="9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488F4B6-B7E0-4CEF-A412-52D018E84D26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Num" idx="10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DA4C8F5-BDDE-4691-92ED-C8EE4A8F917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1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1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1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1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141640" y="991800"/>
            <a:ext cx="6316560" cy="1260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Calibri"/>
                <a:ea typeface="Verdana"/>
              </a:rPr>
              <a:t>Projektu pieteikumu aizpildīšanas seminārs </a:t>
            </a:r>
            <a:br>
              <a:rPr sz="2800"/>
            </a:br>
            <a:r>
              <a:rPr b="1" lang="lv-LV" sz="3300" spc="-1" strike="noStrike">
                <a:solidFill>
                  <a:srgbClr val="0b7d91"/>
                </a:solidFill>
                <a:latin typeface="Calibri"/>
                <a:ea typeface="Verdana"/>
              </a:rPr>
              <a:t>Sagatavošanas vizītēm </a:t>
            </a:r>
            <a:br>
              <a:rPr sz="2600"/>
            </a:b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1865160" y="2887560"/>
            <a:ext cx="6818400" cy="1201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600" spc="-1" strike="noStrike">
                <a:solidFill>
                  <a:srgbClr val="0b7d91"/>
                </a:solidFill>
                <a:latin typeface="Calibri"/>
                <a:ea typeface="Verdana"/>
              </a:rPr>
              <a:t>Jauniešu izglītības, Pieaugušo izglītības un Ziemeļvalstu valodu projektu sagatavošanai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2238480" y="4088880"/>
            <a:ext cx="5829120" cy="668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2021.gada 7.septembrī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8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779" name="Text Placeholder 3"/>
          <p:cNvSpPr/>
          <p:nvPr/>
        </p:nvSpPr>
        <p:spPr>
          <a:xfrm flipV="1" rot="10800000">
            <a:off x="3795840" y="5058360"/>
            <a:ext cx="48686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VIAA Izglītības atbalsta un starptautiskās sadarbības departament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Starptautisko sadarbības programmu nodaļas vec. proj.vad. </a:t>
            </a:r>
            <a:r>
              <a:rPr b="1" lang="lv-LV" sz="1500" spc="-1" strike="noStrike">
                <a:solidFill>
                  <a:srgbClr val="002060"/>
                </a:solidFill>
                <a:latin typeface="Verdana"/>
              </a:rPr>
              <a:t>Linards Deidul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603160" y="45864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 programmas kop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ējā statisti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9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810" name=""/>
          <p:cNvSpPr txBox="1"/>
          <p:nvPr/>
        </p:nvSpPr>
        <p:spPr>
          <a:xfrm>
            <a:off x="484200" y="2182320"/>
            <a:ext cx="5330880" cy="460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http://statistikk.nordplusonline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1" name="Picture 1" descr=""/>
          <p:cNvPicPr/>
          <p:nvPr/>
        </p:nvPicPr>
        <p:blipFill>
          <a:blip r:embed="rId2"/>
          <a:stretch/>
        </p:blipFill>
        <p:spPr>
          <a:xfrm>
            <a:off x="268200" y="3243240"/>
            <a:ext cx="846288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603160" y="458280"/>
            <a:ext cx="6095880" cy="1282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5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 2019. gada </a:t>
            </a:r>
            <a:r>
              <a:rPr b="1" lang="lv-LV" sz="2500" spc="-1" strike="noStrike" u="sng">
                <a:solidFill>
                  <a:srgbClr val="0b7d91"/>
                </a:solidFill>
                <a:uFillTx/>
                <a:latin typeface="Verdana"/>
                <a:ea typeface="Verdana"/>
              </a:rPr>
              <a:t>sagatavošanas vizīšu 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konkursa rezultāti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3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14" name=""/>
          <p:cNvGraphicFramePr/>
          <p:nvPr/>
        </p:nvGraphicFramePr>
        <p:xfrm>
          <a:off x="1082520" y="2300400"/>
          <a:ext cx="7755120" cy="3205080"/>
        </p:xfrm>
        <a:graphic>
          <a:graphicData uri="http://schemas.openxmlformats.org/drawingml/2006/table">
            <a:tbl>
              <a:tblPr/>
              <a:tblGrid>
                <a:gridCol w="2109960"/>
                <a:gridCol w="1257120"/>
                <a:gridCol w="1573200"/>
                <a:gridCol w="1249560"/>
                <a:gridCol w="1565280"/>
              </a:tblGrid>
              <a:tr h="1042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rogrammas vei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Iesniegtie projekti no visām dalībvalstī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pstiprinātie projekti visām dalībvalstī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atvijas pieteicēju iesniegtie projek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atvijas pieteicēju  apstiprinātie projek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7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Jaunieš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ieaugušo izglītīb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Ziemeļvalstu valod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Kopā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2 (76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8 (57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5" name="Rectangle 41"/>
          <p:cNvSpPr/>
          <p:nvPr/>
        </p:nvSpPr>
        <p:spPr>
          <a:xfrm>
            <a:off x="4822920" y="-39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603160" y="458280"/>
            <a:ext cx="6095880" cy="1282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5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 2020. gada </a:t>
            </a:r>
            <a:r>
              <a:rPr b="1" lang="lv-LV" sz="2500" spc="-1" strike="noStrike" u="sng">
                <a:solidFill>
                  <a:srgbClr val="0b7d91"/>
                </a:solidFill>
                <a:uFillTx/>
                <a:latin typeface="Verdana"/>
                <a:ea typeface="Verdana"/>
              </a:rPr>
              <a:t>sagatavošanas vizīšu 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konkursa rezultāti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7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18" name=""/>
          <p:cNvGraphicFramePr/>
          <p:nvPr/>
        </p:nvGraphicFramePr>
        <p:xfrm>
          <a:off x="1082520" y="2300400"/>
          <a:ext cx="7755120" cy="3506760"/>
        </p:xfrm>
        <a:graphic>
          <a:graphicData uri="http://schemas.openxmlformats.org/drawingml/2006/table">
            <a:tbl>
              <a:tblPr/>
              <a:tblGrid>
                <a:gridCol w="2109960"/>
                <a:gridCol w="1257120"/>
                <a:gridCol w="1573200"/>
                <a:gridCol w="1249560"/>
                <a:gridCol w="1565280"/>
              </a:tblGrid>
              <a:tr h="1042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rogrammas vei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Iesniegtie projekti no visām dalībvalstī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pstiprinātie projekti visām dalībvalstī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atvijas pieteicēju iesniegtie projek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atvijas pieteicēju  apstiprinātie projek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658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Jaunieš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ieaugušo izglītīb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Ziemeļvalstu valod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Kopā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7 (64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 (50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9" name="Rectangle 41"/>
          <p:cNvSpPr/>
          <p:nvPr/>
        </p:nvSpPr>
        <p:spPr>
          <a:xfrm>
            <a:off x="4822920" y="-39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150640" y="380880"/>
            <a:ext cx="653580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Paziņojums par 2021. gada sagatavošanas vizīšu konkursu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1235160" y="1692000"/>
            <a:ext cx="7526160" cy="4638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https://www.nordplusonline.org/news-calls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2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pic>
        <p:nvPicPr>
          <p:cNvPr id="823" name="Picture 2" descr=""/>
          <p:cNvPicPr/>
          <p:nvPr/>
        </p:nvPicPr>
        <p:blipFill>
          <a:blip r:embed="rId2"/>
          <a:stretch/>
        </p:blipFill>
        <p:spPr>
          <a:xfrm>
            <a:off x="1736640" y="2360520"/>
            <a:ext cx="631044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2150640" y="380880"/>
            <a:ext cx="653580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Pieteikumu sagatavošanas vizītēm vispārējie nosacījumi (I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 txBox="1"/>
          <p:nvPr/>
        </p:nvSpPr>
        <p:spPr>
          <a:xfrm>
            <a:off x="1994040" y="1530000"/>
            <a:ext cx="6767280" cy="4800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Sagatavošanas vizītes paredzētas, lai potenciālie projektu iesniedzēji tiktos ar potenciālajiem partneriem (uz projekta iesniegšanas laiku parteriem jābūt zināmiem!), sāktu plānot projektu un gatavotu projekta pieteikumu. Jābūt skaidrai projekta ideja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Pieteikumus sagatavošanas vizītēm iespējams iesniegt tikai </a:t>
            </a:r>
            <a:r>
              <a:rPr b="1" i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Nordplus Junior, Nordplus Adult un Nordplus Nordic Language </a:t>
            </a: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apakšprogrammā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Pieteikumu iesniegšanas termiņš </a:t>
            </a:r>
            <a:r>
              <a:rPr b="0" lang="lv-LV" sz="2000" spc="-1" strike="noStrike">
                <a:solidFill>
                  <a:srgbClr val="ff0000"/>
                </a:solidFill>
                <a:latin typeface="Calibri"/>
                <a:ea typeface="Verdana"/>
              </a:rPr>
              <a:t>– </a:t>
            </a:r>
            <a:r>
              <a:rPr b="1" lang="lv-LV" sz="2000" spc="-1" strike="noStrike">
                <a:solidFill>
                  <a:srgbClr val="ff0000"/>
                </a:solidFill>
                <a:latin typeface="Calibri"/>
                <a:ea typeface="Verdana"/>
              </a:rPr>
              <a:t>2021.gada 1.oktobris, plkst. 23.59.  pēc Norvēģijas laik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Pieteikums ir jāaizpilda </a:t>
            </a: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angļu valodā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Projektu pieteikumi jāaizpilda un jāiesniedz, izmantojot tiešsaistes sistēmu </a:t>
            </a:r>
            <a:r>
              <a:rPr b="0" i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Espresso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: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https://espresso.siu.no/espresso/login?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6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7" name="Picture 2" descr=""/>
          <p:cNvPicPr/>
          <p:nvPr/>
        </p:nvPicPr>
        <p:blipFill>
          <a:blip r:embed="rId1"/>
          <a:stretch/>
        </p:blipFill>
        <p:spPr>
          <a:xfrm>
            <a:off x="158760" y="457200"/>
            <a:ext cx="9121680" cy="50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2211120" y="380880"/>
            <a:ext cx="647532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Pieteikumu sagatavošanas vizītēm vispārējie nosacījumi (II)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 txBox="1"/>
          <p:nvPr/>
        </p:nvSpPr>
        <p:spPr>
          <a:xfrm>
            <a:off x="2123640" y="1590480"/>
            <a:ext cx="6475320" cy="4708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Sagatavošanas vizītē piedalās </a:t>
            </a:r>
            <a:r>
              <a:rPr b="0" lang="lv-LV" sz="2200" spc="-1" strike="noStrike" u="sng">
                <a:solidFill>
                  <a:srgbClr val="002060"/>
                </a:solidFill>
                <a:uFillTx/>
                <a:latin typeface="Calibri"/>
                <a:ea typeface="Verdana"/>
              </a:rPr>
              <a:t>ne mazāk kā divas izglītības iestādes/organizācijas no divām dažādām 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Nordplus programmas valstī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Sagatavošanas vizītes </a:t>
            </a:r>
            <a:r>
              <a:rPr b="0" lang="lv-LV" sz="2200" spc="-1" strike="noStrike" u="sng">
                <a:solidFill>
                  <a:srgbClr val="002060"/>
                </a:solidFill>
                <a:uFillTx/>
                <a:latin typeface="Calibri"/>
                <a:ea typeface="Verdana"/>
              </a:rPr>
              <a:t>maksimālais ilgums ir 5 dienas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, ieskaitot ceļā pavadīto laiku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Maksimāli viena sagatavošanas vizīte ar </a:t>
            </a: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maksimums 2 dalībniekiem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 no katras organizācijas/valsts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Sagatavošanas vizītēm Nordplus sedz 100% ceļa izdevumus un uzturēšanās izdevumus saskaņā ar likmē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Sagatavošanas vizīte īstenojama </a:t>
            </a: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no 2021.gada 1.novembra līdz 2022. gada 1.februārim 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(ja plānots iesniegt projektu 2022. gada projektu konkursam)</a:t>
            </a: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, vai līdz 2021./2022.mācību gada beigām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0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2141280" y="380880"/>
            <a:ext cx="65451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Pieteikumu sagatavošanas vizītēm vispārējie nosacījumi (III)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1897200" y="1506600"/>
            <a:ext cx="6789600" cy="4619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Uzņemošai institūcijai nekādi izdevumi saistībā ar sagatavošanas vizītēm netiek segti!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Pieteikumā iekļaujams detalizēts vizītes darba plāns (</a:t>
            </a:r>
            <a:r>
              <a:rPr b="0" i="1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schedule</a:t>
            </a:r>
            <a:r>
              <a:rPr b="0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)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Pieteikumā norādāmi konkrēti vizītes sasniedzamie mērķi attiecībā uz nākotnē plānoto projektu (kādi ir vizītes sagaidāmie rezultāti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Pieteikumam jāpievieno organizācijas paraksttiesīgās personas parakstīta Nodomu vēstule (</a:t>
            </a:r>
            <a:r>
              <a:rPr b="0" i="1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Letter of Intent</a:t>
            </a:r>
            <a:r>
              <a:rPr b="0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) par koordinatoru un par katru partneri (</a:t>
            </a:r>
            <a:r>
              <a:rPr b="0" i="1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Letter of Intent </a:t>
            </a:r>
            <a:r>
              <a:rPr b="0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izveido </a:t>
            </a:r>
            <a:r>
              <a:rPr b="0" i="1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Espresso</a:t>
            </a:r>
            <a:r>
              <a:rPr b="0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 sistēmā, aizpildot pieteikuma veidlapu)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3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itle 1"/>
          <p:cNvSpPr/>
          <p:nvPr/>
        </p:nvSpPr>
        <p:spPr>
          <a:xfrm>
            <a:off x="2266920" y="493560"/>
            <a:ext cx="609588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b7d91"/>
                </a:solidFill>
                <a:latin typeface="Verdana"/>
              </a:rPr>
              <a:t>Detalizēti apakšprogrammu apraksti pieejami Nordplus Rokasgrāmatā (IV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2"/>
          <p:cNvSpPr/>
          <p:nvPr/>
        </p:nvSpPr>
        <p:spPr>
          <a:xfrm>
            <a:off x="485640" y="2503440"/>
            <a:ext cx="3940200" cy="18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</a:rPr>
              <a:t>Katru gadu pirms projektu konkursa tiek publicēta rokasgrāmatas atjaunotā versi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</a:rPr>
              <a:t>2021.gada Nordplus Rokasgrāmata (angļu valodā) pieejama: </a:t>
            </a: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https://www.nordplusonline.org/how-to-apply/handbook/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6" name="Picture 2" descr=""/>
          <p:cNvPicPr/>
          <p:nvPr/>
        </p:nvPicPr>
        <p:blipFill>
          <a:blip r:embed="rId1"/>
          <a:stretch/>
        </p:blipFill>
        <p:spPr>
          <a:xfrm>
            <a:off x="5784840" y="1795320"/>
            <a:ext cx="287352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141280" y="380880"/>
            <a:ext cx="65451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Pieteikumu sagatavošanas vizītēm vispārējie nosacījumi (V)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TextBox 9"/>
          <p:cNvSpPr/>
          <p:nvPr/>
        </p:nvSpPr>
        <p:spPr>
          <a:xfrm>
            <a:off x="846000" y="4124160"/>
            <a:ext cx="2017800" cy="19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lv-LV" sz="1700" spc="-1" strike="noStrike">
                <a:solidFill>
                  <a:srgbClr val="002060"/>
                </a:solidFill>
                <a:latin typeface="Calibri"/>
                <a:ea typeface="Calibri"/>
              </a:rPr>
              <a:t>Nordplus Rokasgrāmata (2021.) par sagatavošanas vizītēm, 18.lpp; 44.lpp , 64.lpp, 65 lpp., 72.lpp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9" name="Picture 2" descr=""/>
          <p:cNvPicPr/>
          <p:nvPr/>
        </p:nvPicPr>
        <p:blipFill>
          <a:blip r:embed="rId1"/>
          <a:stretch/>
        </p:blipFill>
        <p:spPr>
          <a:xfrm>
            <a:off x="1952640" y="1189080"/>
            <a:ext cx="4826160" cy="2935080"/>
          </a:xfrm>
          <a:prstGeom prst="rect">
            <a:avLst/>
          </a:prstGeom>
          <a:ln w="0">
            <a:noFill/>
          </a:ln>
        </p:spPr>
      </p:pic>
      <p:pic>
        <p:nvPicPr>
          <p:cNvPr id="840" name="Picture 4" descr=""/>
          <p:cNvPicPr/>
          <p:nvPr/>
        </p:nvPicPr>
        <p:blipFill>
          <a:blip r:embed="rId2"/>
          <a:stretch/>
        </p:blipFill>
        <p:spPr>
          <a:xfrm>
            <a:off x="5280120" y="3538440"/>
            <a:ext cx="3481200" cy="34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2018-2022</a:t>
            </a: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1703520" y="1252440"/>
            <a:ext cx="744048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Ziemeļu Ministru padomes programma Ziemeļvalstu un Baltijas valstu sadarbībai izglītības jomā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5 apakšprogramma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Jaunieš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Augstākās izglītīb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Pieaugušo izglītība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Horizontālā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Ziemeļvalstu valod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Oficiālais portāls </a:t>
            </a: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https://www.nordplusonline.org/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Informācija VIAA portālā latviski </a:t>
            </a: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https://www.viaa.gov.lv/lv/nordplu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2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1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2141280" y="380880"/>
            <a:ext cx="65451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300" spc="-1" strike="noStrike">
                <a:solidFill>
                  <a:srgbClr val="0b7d91"/>
                </a:solidFill>
                <a:latin typeface="Verdana"/>
                <a:ea typeface="Verdana"/>
              </a:rPr>
              <a:t>Pieteikumu sagatavošanas vizītēm vispārējie nosacījumi (V) - finansēju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1773360" y="1506600"/>
            <a:ext cx="7161120" cy="4857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2060"/>
                </a:solidFill>
                <a:latin typeface="Calibri"/>
                <a:ea typeface="Verdana"/>
              </a:rPr>
              <a:t> </a:t>
            </a:r>
            <a:r>
              <a:rPr b="0" lang="lv-LV" sz="2500" spc="-1" strike="noStrike" u="sng">
                <a:solidFill>
                  <a:srgbClr val="002060"/>
                </a:solidFill>
                <a:uFillTx/>
                <a:latin typeface="Calibri"/>
                <a:ea typeface="Verdana"/>
              </a:rPr>
              <a:t>Ceļa izdevumi  (abos virzienos) </a:t>
            </a:r>
            <a:r>
              <a:rPr b="0" lang="lv-LV" sz="2500" spc="-1" strike="noStrike">
                <a:solidFill>
                  <a:srgbClr val="002060"/>
                </a:solidFill>
                <a:latin typeface="Calibri"/>
                <a:ea typeface="Verdana"/>
              </a:rPr>
              <a:t>tiek finansēti šādā apmērā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4840" indent="-342720" algn="just">
              <a:lnSpc>
                <a:spcPct val="11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Times New Roman"/>
              </a:rPr>
              <a:t>Uz Islandi un Fēru salām – </a:t>
            </a: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Times New Roman"/>
              </a:rPr>
              <a:t>660 eur 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Times New Roman"/>
              </a:rPr>
              <a:t>1 dalībnieka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4840" indent="-342720" algn="just">
              <a:lnSpc>
                <a:spcPct val="11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Times New Roman"/>
              </a:rPr>
              <a:t>Uz Dāniju, Igauniju, Somiju, Ālandu salām, Norvēģiju, Zviedriju, Lietuvu - </a:t>
            </a: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Times New Roman"/>
              </a:rPr>
              <a:t>330 eur 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Times New Roman"/>
              </a:rPr>
              <a:t>1 dalībnieka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4840" indent="-342720" algn="just">
              <a:lnSpc>
                <a:spcPct val="11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Times New Roman"/>
              </a:rPr>
              <a:t>Ceļa izdevumi savā  valstī, ja pārsniedz 500 km – 150 eur 1 dalībniekam. (uz Latviju nav attiecinām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 u="sng">
                <a:solidFill>
                  <a:srgbClr val="002060"/>
                </a:solidFill>
                <a:uFillTx/>
                <a:latin typeface="Calibri"/>
                <a:ea typeface="Verdana"/>
              </a:rPr>
              <a:t>Uzturēšanās izdevumi 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tiek finansēti </a:t>
            </a: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70 eur 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apmērā par 1 diennakti 1 dalībniekam.</a:t>
            </a:r>
            <a:r>
              <a:rPr b="0" lang="en-US" sz="2000" spc="-1" strike="noStrike">
                <a:solidFill>
                  <a:srgbClr val="002060"/>
                </a:solidFill>
                <a:latin typeface="Calibri"/>
                <a:ea typeface="Verdan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alibri"/>
                <a:ea typeface="Verdana"/>
              </a:rPr>
              <a:t>Pieteikuma veidlap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ā budžeta aprēķini notiek </a:t>
            </a: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automātiski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, ievadot brauciena dalībnieku skaitu, dienu skaitu un apmeklējamo valst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4840" indent="-3427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2168640" y="380880"/>
            <a:ext cx="65181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Jauniešu apakšprogram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2072880" y="1289160"/>
            <a:ext cx="6613560" cy="48369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92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Mērķa grupa</a:t>
            </a:r>
            <a:r>
              <a:rPr b="1" lang="lv-LV" sz="2000" spc="-1" strike="noStrike">
                <a:solidFill>
                  <a:srgbClr val="0b7d91"/>
                </a:solidFill>
                <a:latin typeface="Calibri"/>
                <a:ea typeface="Verdana"/>
              </a:rPr>
              <a:t> – 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skolēni/audzēkņi, skolotāji/pasniedzēji, administrācijas darbiniek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Projektu pieteicēji</a:t>
            </a:r>
            <a:r>
              <a:rPr b="0" lang="lv-LV" sz="2000" spc="-1" strike="noStrike">
                <a:solidFill>
                  <a:srgbClr val="454547"/>
                </a:solidFill>
                <a:latin typeface="Calibri"/>
                <a:ea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>
              <a:lnSpc>
                <a:spcPct val="92000"/>
              </a:lnSpc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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pirmsskolas iestā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>
              <a:lnSpc>
                <a:spcPct val="92000"/>
              </a:lnSpc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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sākumskola/pamatskola/vidussko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>
              <a:lnSpc>
                <a:spcPct val="92000"/>
              </a:lnSpc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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profesionālās izglītības iestā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 algn="just">
              <a:lnSpc>
                <a:spcPct val="92000"/>
              </a:lnSpc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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kultūras skolas (mūzikas un mākslas skolas), kas īsteno valsts apstiprinātu programm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 algn="just">
              <a:lnSpc>
                <a:spcPct val="92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! Cita veida iestādes, kas ir saistītas ar mērķa grupas apmācību, bet neīsteno valsts apstiprinātas mācību programmas, var piedalīties kā partne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 algn="just">
              <a:lnSpc>
                <a:spcPct val="90000"/>
              </a:lnSpc>
              <a:buClr>
                <a:srgbClr val="000000"/>
              </a:buClr>
              <a:buSzPct val="45000"/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2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!! Kā projekta </a:t>
            </a:r>
            <a:r>
              <a:rPr b="1" lang="lv-LV" sz="2000" spc="-1" strike="noStrike" u="sng">
                <a:solidFill>
                  <a:srgbClr val="002060"/>
                </a:solidFill>
                <a:uFillTx/>
                <a:latin typeface="Calibri"/>
                <a:ea typeface="Verdana"/>
              </a:rPr>
              <a:t>iesniedzēji/koordinatori </a:t>
            </a: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var būt tikai formālās izglītības iestādes (tas ir – bērnudārzi, skolas, profesionālās izglītības iestādes, mūzikas un mākslas skolas</a:t>
            </a: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, kas īsteno valsts apstiprinātas mācību programm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6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Jauniešu apakšprogrammas projektu vei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 txBox="1"/>
          <p:nvPr/>
        </p:nvSpPr>
        <p:spPr>
          <a:xfrm>
            <a:off x="1976040" y="1417320"/>
            <a:ext cx="7002360" cy="4708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1. Mobilitā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klašu apmaiņa (no 1 līdz 3 nedēļām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vidusskolu skolēnu apmaiņa un profesionālās izglītības skolu audzēkņu darba prakse (no 1 nedēļas līdz 1 gadam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skolotāju un pedagoģiskā personāla apmaiņa (no 1 nedēļas līdz 1 gadam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2. Projekti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Calibri"/>
              </a:rPr>
              <a:t>administratīvas tikšanās projekta aktivitāšu plānošanai un īstenošanai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Calibri"/>
              </a:rPr>
              <a:t>attīstības projekti un citas aktivitātes, kas vērstas uz pedagoģisko un didaktisko metožu attīstīšanu un pilnveidi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3. Sadarbības tīk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Calibri"/>
              </a:rPr>
              <a:t>administratīvās tikšanās, lai dibinātu un attīstītu skolu sadarbības tīklu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Calibri"/>
              </a:rPr>
              <a:t>sabiedrības informēšanas aktivitātes un projektu rezultātu izplatīšana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9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Jauniešu apakšprogrammas nosacīj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 txBox="1"/>
          <p:nvPr/>
        </p:nvSpPr>
        <p:spPr>
          <a:xfrm>
            <a:off x="1993680" y="1349280"/>
            <a:ext cx="6692760" cy="4840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9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Partneri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Mobilitātēm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 - </a:t>
            </a: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vismaz viens sadarbības partneris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 - izglītības iestāde no citas programmas dalībvalst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Projektiem un sadarbības tīkliem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 - </a:t>
            </a: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vismaz divi sadarbības partneri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 - izglītības iestādes no dažādām programmas dalībvalstīm.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9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Finansējumu piešķir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mobilitātēm 100%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 apmērā no mobilitātes izmaksām saskaņā ar programmas noteiktajām standarta (maksimālajām) likmēm ceļa un uzturēšanas izdevumie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Sadarbības projektiem - 100% 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no piešķirtā finansējuma saskaņā ar plānotajām vienības izmaksā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sadarbības tīkliem un projektiem kopš 2021. gada līdzfinansējuma apjoms </a:t>
            </a:r>
            <a:r>
              <a:rPr b="1" lang="lv-LV" sz="2000" spc="-1" strike="noStrike" u="sng">
                <a:solidFill>
                  <a:srgbClr val="002060"/>
                </a:solidFill>
                <a:uFillTx/>
                <a:latin typeface="Calibri"/>
                <a:ea typeface="Verdana"/>
              </a:rPr>
              <a:t>nav noteikts</a:t>
            </a: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2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3" name="Picture 2" descr=""/>
          <p:cNvPicPr/>
          <p:nvPr/>
        </p:nvPicPr>
        <p:blipFill>
          <a:blip r:embed="rId1"/>
          <a:stretch/>
        </p:blipFill>
        <p:spPr>
          <a:xfrm>
            <a:off x="4308480" y="1647720"/>
            <a:ext cx="4282920" cy="1386000"/>
          </a:xfrm>
          <a:prstGeom prst="rect">
            <a:avLst/>
          </a:prstGeom>
          <a:ln w="0">
            <a:noFill/>
          </a:ln>
        </p:spPr>
      </p:pic>
      <p:pic>
        <p:nvPicPr>
          <p:cNvPr id="854" name="Picture 3" descr=""/>
          <p:cNvPicPr/>
          <p:nvPr/>
        </p:nvPicPr>
        <p:blipFill>
          <a:blip r:embed="rId2"/>
          <a:stretch/>
        </p:blipFill>
        <p:spPr>
          <a:xfrm>
            <a:off x="4408560" y="3127320"/>
            <a:ext cx="4487760" cy="2274840"/>
          </a:xfrm>
          <a:prstGeom prst="rect">
            <a:avLst/>
          </a:prstGeom>
          <a:ln w="0">
            <a:noFill/>
          </a:ln>
        </p:spPr>
      </p:pic>
      <p:sp>
        <p:nvSpPr>
          <p:cNvPr id="855" name="Rectangle 2"/>
          <p:cNvSpPr/>
          <p:nvPr/>
        </p:nvSpPr>
        <p:spPr>
          <a:xfrm>
            <a:off x="4857840" y="5649840"/>
            <a:ext cx="377640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1f4e79"/>
                </a:solidFill>
                <a:latin typeface="Calibri"/>
              </a:rPr>
              <a:t>Sadarbības projektu finansējuma apraksts (</a:t>
            </a:r>
            <a:r>
              <a:rPr b="0" i="1" lang="lv-LV" sz="1800" spc="-1" strike="noStrike">
                <a:solidFill>
                  <a:srgbClr val="1f4e79"/>
                </a:solidFill>
                <a:latin typeface="Calibri"/>
              </a:rPr>
              <a:t>Rokasgrāmata 2021</a:t>
            </a:r>
            <a:r>
              <a:rPr b="0" lang="lv-LV" sz="1800" spc="-1" strike="noStrike">
                <a:solidFill>
                  <a:srgbClr val="1f4e79"/>
                </a:solidFill>
                <a:latin typeface="Calibri"/>
              </a:rPr>
              <a:t>., 24. – 25. lpp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2411280" y="423720"/>
            <a:ext cx="6485040" cy="944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</a:rPr>
              <a:t>Jauniešu Sadarbības projektu un tīklu finansēju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7" name="Picture 3" descr=""/>
          <p:cNvPicPr/>
          <p:nvPr/>
        </p:nvPicPr>
        <p:blipFill>
          <a:blip r:embed="rId3"/>
          <a:stretch/>
        </p:blipFill>
        <p:spPr>
          <a:xfrm>
            <a:off x="109440" y="1652760"/>
            <a:ext cx="3992760" cy="2474640"/>
          </a:xfrm>
          <a:prstGeom prst="rect">
            <a:avLst/>
          </a:prstGeom>
          <a:ln w="0">
            <a:noFill/>
          </a:ln>
        </p:spPr>
      </p:pic>
      <p:sp>
        <p:nvSpPr>
          <p:cNvPr id="858" name="Rectangle 2"/>
          <p:cNvSpPr/>
          <p:nvPr/>
        </p:nvSpPr>
        <p:spPr>
          <a:xfrm>
            <a:off x="358920" y="4363920"/>
            <a:ext cx="377964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1f4e79"/>
                </a:solidFill>
                <a:latin typeface="Calibri"/>
              </a:rPr>
              <a:t>Jauniešu apakšpr.  sadarbības projektu pieteikumu veidlapa, pieejama https://espresso.diku.n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2198520" y="380880"/>
            <a:ext cx="609624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Pieaugušo izglītības apakšprogramma</a:t>
            </a: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1728360" y="1671120"/>
            <a:ext cx="7110360" cy="4659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82000"/>
              </a:lnSpc>
              <a:spcBef>
                <a:spcPts val="5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3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Mērķa grupa </a:t>
            </a:r>
            <a:r>
              <a:rPr b="0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ir visi un jebkurš pieaugušo izglītībā iesaistītais (formālā, neformālā, vispārējā, profesionālā izglītība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2000"/>
              </a:lnSpc>
              <a:spcBef>
                <a:spcPts val="5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3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Projektu pieteicēji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2000"/>
              </a:lnSpc>
              <a:spcBef>
                <a:spcPts val="550"/>
              </a:spcBef>
              <a:buClr>
                <a:srgbClr val="002060"/>
              </a:buClr>
              <a:buSzPct val="45000"/>
              <a:buFont typeface="Wingdings" charset="2"/>
              <a:buChar char="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izglītības iestādes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, kas iesaistītas vai nodarbojas ar pieaugušo izglītības nodrošināšanu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2000"/>
              </a:lnSpc>
              <a:spcBef>
                <a:spcPts val="550"/>
              </a:spcBef>
              <a:buClr>
                <a:srgbClr val="002060"/>
              </a:buClr>
              <a:buSzPct val="45000"/>
              <a:buFont typeface="Wingdings" charset="2"/>
              <a:buChar char="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organizācijas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, kas nodarbojas ar pieaugušo izglītības īstenošanu (asociācijas, uzņēmumi, nevalstiskās organizācijas, un tml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2000"/>
              </a:lnSpc>
              <a:spcBef>
                <a:spcPts val="5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300" spc="-1" strike="noStrike">
                <a:solidFill>
                  <a:srgbClr val="ff0000"/>
                </a:solidFill>
                <a:latin typeface="Calibri"/>
                <a:ea typeface="Verdana"/>
              </a:rPr>
              <a:t>!!!</a:t>
            </a:r>
            <a:r>
              <a:rPr b="1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 Pieaugušo izglītības programmas projekta iesniedzējs var nebūt izglītības iestāde, bet projektā jābūt skaidri norādītam, kā projekta iesniedzējs saistīts ar pieaugušo izglītību, ko un kā izglītojamie iegūs no projekta īstenošana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1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ieaugušo apakšprogrammas projektu vei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 txBox="1"/>
          <p:nvPr/>
        </p:nvSpPr>
        <p:spPr>
          <a:xfrm>
            <a:off x="2080800" y="1611000"/>
            <a:ext cx="6605640" cy="4614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2060"/>
                </a:solidFill>
                <a:latin typeface="Calibri"/>
                <a:ea typeface="Verdana"/>
              </a:rPr>
              <a:t>1. Mobilitā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 algn="just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pieaugušo izglītotāju un cita pedagoģiskā personāla tālākizglītība (no 5 dienām līdz 1 gadam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 algn="just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pieaugušo audzēkņu apmaiņa (no 5 dienām līdz 1 gadam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2060"/>
                </a:solidFill>
                <a:latin typeface="Calibri"/>
                <a:ea typeface="Verdana"/>
              </a:rPr>
              <a:t>2. Sadarbības projek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 algn="just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Calibri"/>
              </a:rPr>
              <a:t>tematisko tīklu 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Calibri"/>
              </a:rPr>
              <a:t>projekti, kas paredz administratīvas tikšanās, lai dibinātu un attīstītu sadarbības tīklu pieaugušo izglītības sfērā, sabiedrības informēšanas aktivitātes, projekta rezultātu izplatīšan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 algn="just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Calibri"/>
              </a:rPr>
              <a:t>attīstības projekti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Calibri"/>
              </a:rPr>
              <a:t>, kas paredz jaunu moduli, kursu, mācību metožu izveid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 algn="just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Calibri"/>
              </a:rPr>
              <a:t>plānošanas projekti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Calibri"/>
              </a:rPr>
              <a:t>, kas paredz iestrādes jaunu projektu izstrāde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4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ieaugušo izglītības projektu nosacīj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2211120" y="1531800"/>
            <a:ext cx="6475320" cy="4834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Partneri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24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100" spc="-1" strike="noStrike">
                <a:solidFill>
                  <a:srgbClr val="002060"/>
                </a:solidFill>
                <a:latin typeface="Calibri"/>
                <a:ea typeface="Verdana"/>
              </a:rPr>
              <a:t>Mobilitātēm</a:t>
            </a:r>
            <a:r>
              <a:rPr b="0" lang="lv-LV" sz="2100" spc="-1" strike="noStrike">
                <a:solidFill>
                  <a:srgbClr val="002060"/>
                </a:solidFill>
                <a:latin typeface="Calibri"/>
                <a:ea typeface="Verdana"/>
              </a:rPr>
              <a:t> - </a:t>
            </a:r>
            <a:r>
              <a:rPr b="1" lang="lv-LV" sz="2100" spc="-1" strike="noStrike">
                <a:solidFill>
                  <a:srgbClr val="002060"/>
                </a:solidFill>
                <a:latin typeface="Calibri"/>
                <a:ea typeface="Verdana"/>
              </a:rPr>
              <a:t>vismaz viens sadarbības partneris</a:t>
            </a:r>
            <a:r>
              <a:rPr b="0" lang="lv-LV" sz="2100" spc="-1" strike="noStrike">
                <a:solidFill>
                  <a:srgbClr val="002060"/>
                </a:solidFill>
                <a:latin typeface="Calibri"/>
                <a:ea typeface="Verdana"/>
              </a:rPr>
              <a:t> - organizācija no citas programmas dalībvalsts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24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100" spc="-1" strike="noStrike">
                <a:solidFill>
                  <a:srgbClr val="002060"/>
                </a:solidFill>
                <a:latin typeface="Calibri"/>
                <a:ea typeface="Verdana"/>
              </a:rPr>
              <a:t>Sadarbības projektiem</a:t>
            </a:r>
            <a:r>
              <a:rPr b="0" lang="lv-LV" sz="2100" spc="-1" strike="noStrike">
                <a:solidFill>
                  <a:srgbClr val="002060"/>
                </a:solidFill>
                <a:latin typeface="Calibri"/>
                <a:ea typeface="Verdana"/>
              </a:rPr>
              <a:t> - </a:t>
            </a:r>
            <a:r>
              <a:rPr b="1" lang="lv-LV" sz="2100" spc="-1" strike="noStrike">
                <a:solidFill>
                  <a:srgbClr val="002060"/>
                </a:solidFill>
                <a:latin typeface="Calibri"/>
                <a:ea typeface="Verdana"/>
              </a:rPr>
              <a:t>vismaz divi sadarbības partneri</a:t>
            </a:r>
            <a:r>
              <a:rPr b="0" lang="lv-LV" sz="2100" spc="-1" strike="noStrike">
                <a:solidFill>
                  <a:srgbClr val="002060"/>
                </a:solidFill>
                <a:latin typeface="Calibri"/>
                <a:ea typeface="Verdana"/>
              </a:rPr>
              <a:t> - organizācijas no dažādām programmas dalībvalstīm.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Finansējumu piešķi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24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100" spc="-1" strike="noStrike">
                <a:solidFill>
                  <a:srgbClr val="002060"/>
                </a:solidFill>
                <a:latin typeface="Calibri"/>
                <a:ea typeface="Verdana"/>
              </a:rPr>
              <a:t>Mobilitātēm 100%</a:t>
            </a:r>
            <a:r>
              <a:rPr b="0" lang="lv-LV" sz="2100" spc="-1" strike="noStrike">
                <a:solidFill>
                  <a:srgbClr val="002060"/>
                </a:solidFill>
                <a:latin typeface="Calibri"/>
                <a:ea typeface="Verdana"/>
              </a:rPr>
              <a:t> apmērā no mobilitātes izmaksām saskaņā ar programmas noteiktajām standarta (maksimālajām) likmēm ceļa un uzturēšanas izdevumiem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24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100" spc="-1" strike="noStrike">
                <a:solidFill>
                  <a:srgbClr val="002060"/>
                </a:solidFill>
                <a:latin typeface="Calibri"/>
                <a:ea typeface="Verdana"/>
              </a:rPr>
              <a:t>Sadarbības projektiem 100%</a:t>
            </a:r>
            <a:r>
              <a:rPr b="0" lang="lv-LV" sz="2100" spc="-1" strike="noStrike">
                <a:solidFill>
                  <a:srgbClr val="002060"/>
                </a:solidFill>
                <a:latin typeface="Calibri"/>
                <a:ea typeface="Verdana"/>
              </a:rPr>
              <a:t> no piešķirtā finansējuma saskaņā ar plānotajām vienības izmaksām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7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 txBox="1"/>
          <p:nvPr/>
        </p:nvSpPr>
        <p:spPr>
          <a:xfrm>
            <a:off x="966600" y="1547640"/>
            <a:ext cx="8002440" cy="32623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lvl="1" marL="270000" algn="just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254061"/>
                </a:solidFill>
                <a:latin typeface="Calibri"/>
              </a:rPr>
              <a:t>Vienības izmaksa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270000" algn="just">
              <a:lnSpc>
                <a:spcPct val="100000"/>
              </a:lnSpc>
              <a:spcBef>
                <a:spcPts val="601"/>
              </a:spcBef>
              <a:buClr>
                <a:srgbClr val="254061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254061"/>
                </a:solidFill>
                <a:latin typeface="Calibri"/>
              </a:rPr>
              <a:t>Projekta vadības, īstenošanas un publicitātes izmaksas </a:t>
            </a:r>
            <a:r>
              <a:rPr b="0" lang="lv-LV" sz="2200" spc="-1" strike="noStrike">
                <a:solidFill>
                  <a:srgbClr val="254061"/>
                </a:solidFill>
                <a:latin typeface="Calibri"/>
              </a:rPr>
              <a:t>– fiksēta summa projekta koordinatoram </a:t>
            </a:r>
            <a:r>
              <a:rPr b="1" lang="lv-LV" sz="2200" spc="-1" strike="noStrike">
                <a:solidFill>
                  <a:srgbClr val="254061"/>
                </a:solidFill>
                <a:latin typeface="Calibri"/>
              </a:rPr>
              <a:t>3000 EUR</a:t>
            </a:r>
            <a:r>
              <a:rPr b="0" lang="lv-LV" sz="2200" spc="-1" strike="noStrike">
                <a:solidFill>
                  <a:srgbClr val="254061"/>
                </a:solidFill>
                <a:latin typeface="Calibri"/>
              </a:rPr>
              <a:t>, projekta partneriem – </a:t>
            </a:r>
            <a:r>
              <a:rPr b="1" lang="lv-LV" sz="2200" spc="-1" strike="noStrike">
                <a:solidFill>
                  <a:srgbClr val="254061"/>
                </a:solidFill>
                <a:latin typeface="Calibri"/>
              </a:rPr>
              <a:t>1000 EUR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270000" algn="just">
              <a:lnSpc>
                <a:spcPct val="100000"/>
              </a:lnSpc>
              <a:spcBef>
                <a:spcPts val="601"/>
              </a:spcBef>
              <a:buClr>
                <a:srgbClr val="254061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254061"/>
                </a:solidFill>
                <a:latin typeface="Calibri"/>
              </a:rPr>
              <a:t>Projekta (starptautiskās) tikšanās </a:t>
            </a:r>
            <a:r>
              <a:rPr b="0" lang="lv-LV" sz="2200" spc="-1" strike="noStrike">
                <a:solidFill>
                  <a:srgbClr val="254061"/>
                </a:solidFill>
                <a:latin typeface="Calibri"/>
              </a:rPr>
              <a:t>– ceļa un uzturēšanās izdevumi projektā iesaistīto partneru dalībai plānošanas, projekta koordinēšanas sanāksmēm, semināriem, mācību kursiem saskaņā ar noteiktajām likmēm ceļa un uzturēšanās izdevumiem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3"/>
          <p:cNvSpPr/>
          <p:nvPr/>
        </p:nvSpPr>
        <p:spPr>
          <a:xfrm>
            <a:off x="1770120" y="511200"/>
            <a:ext cx="6972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</a:rPr>
              <a:t> 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</a:rPr>
              <a:t>Pieaugušo izglītības sadarbības projektu finansēju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1" name="Picture 4" descr=""/>
          <p:cNvPicPr/>
          <p:nvPr/>
        </p:nvPicPr>
        <p:blipFill>
          <a:blip r:embed="rId1"/>
          <a:srcRect l="3218" t="7703" r="1798" b="5770"/>
          <a:stretch/>
        </p:blipFill>
        <p:spPr>
          <a:xfrm>
            <a:off x="2752560" y="4700520"/>
            <a:ext cx="5642280" cy="1819440"/>
          </a:xfrm>
          <a:prstGeom prst="rect">
            <a:avLst/>
          </a:prstGeom>
          <a:ln w="0">
            <a:noFill/>
          </a:ln>
        </p:spPr>
      </p:pic>
      <p:sp>
        <p:nvSpPr>
          <p:cNvPr id="872" name="Rectangle 2"/>
          <p:cNvSpPr/>
          <p:nvPr/>
        </p:nvSpPr>
        <p:spPr>
          <a:xfrm>
            <a:off x="201600" y="5310360"/>
            <a:ext cx="238608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1f4e79"/>
                </a:solidFill>
                <a:latin typeface="Calibri"/>
              </a:rPr>
              <a:t>Sadarbības projektu finansējums  (</a:t>
            </a:r>
            <a:r>
              <a:rPr b="0" i="1" lang="lv-LV" sz="1800" spc="-1" strike="noStrike">
                <a:solidFill>
                  <a:srgbClr val="1f4e79"/>
                </a:solidFill>
                <a:latin typeface="Calibri"/>
              </a:rPr>
              <a:t>Rokasgrāmata 2021</a:t>
            </a:r>
            <a:r>
              <a:rPr b="0" lang="lv-LV" sz="1800" spc="-1" strike="noStrike">
                <a:solidFill>
                  <a:srgbClr val="1f4e79"/>
                </a:solidFill>
                <a:latin typeface="Calibri"/>
              </a:rPr>
              <a:t>., 51. lpp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966600" y="1593360"/>
            <a:ext cx="8002440" cy="2311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lvl="1" marL="270000" algn="just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254061"/>
                </a:solidFill>
                <a:latin typeface="Calibri"/>
              </a:rPr>
              <a:t>Vienības izmaksa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270000" algn="just">
              <a:lnSpc>
                <a:spcPct val="100000"/>
              </a:lnSpc>
              <a:spcBef>
                <a:spcPts val="601"/>
              </a:spcBef>
              <a:buClr>
                <a:srgbClr val="254061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254061"/>
                </a:solidFill>
                <a:latin typeface="Calibri"/>
              </a:rPr>
              <a:t>Izstrādes darbs </a:t>
            </a:r>
            <a:r>
              <a:rPr b="0" lang="lv-LV" sz="2200" spc="-1" strike="noStrike">
                <a:solidFill>
                  <a:srgbClr val="254061"/>
                </a:solidFill>
                <a:latin typeface="Calibri"/>
              </a:rPr>
              <a:t>– darba apmaksai, kas ieguldītas projekta ietvaros paredzētā produkta radīšanai (izglītojošie materiāli, mācību programmas, metodes, u.c.), saskaņā ar noteiktajām likmēm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Rectangle 3"/>
          <p:cNvSpPr/>
          <p:nvPr/>
        </p:nvSpPr>
        <p:spPr>
          <a:xfrm>
            <a:off x="1770120" y="511200"/>
            <a:ext cx="6972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</a:rPr>
              <a:t>  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</a:rPr>
              <a:t>Pieaugušo izglītības sadarbības projektu finansēju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6" name="Picture 4" descr=""/>
          <p:cNvPicPr/>
          <p:nvPr/>
        </p:nvPicPr>
        <p:blipFill>
          <a:blip r:embed="rId1"/>
          <a:stretch/>
        </p:blipFill>
        <p:spPr>
          <a:xfrm>
            <a:off x="2614680" y="3659040"/>
            <a:ext cx="6218280" cy="2330640"/>
          </a:xfrm>
          <a:prstGeom prst="rect">
            <a:avLst/>
          </a:prstGeom>
          <a:ln w="0">
            <a:noFill/>
          </a:ln>
        </p:spPr>
      </p:pic>
      <p:sp>
        <p:nvSpPr>
          <p:cNvPr id="877" name="Rectangle 2"/>
          <p:cNvSpPr/>
          <p:nvPr/>
        </p:nvSpPr>
        <p:spPr>
          <a:xfrm>
            <a:off x="291960" y="4402080"/>
            <a:ext cx="208620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1f4e79"/>
                </a:solidFill>
                <a:latin typeface="Calibri"/>
              </a:rPr>
              <a:t>Sadarbības projektu finansējums  (</a:t>
            </a:r>
            <a:r>
              <a:rPr b="0" i="1" lang="lv-LV" sz="1800" spc="-1" strike="noStrike">
                <a:solidFill>
                  <a:srgbClr val="1f4e79"/>
                </a:solidFill>
                <a:latin typeface="Calibri"/>
              </a:rPr>
              <a:t>Rokasgrāmata 2021</a:t>
            </a:r>
            <a:r>
              <a:rPr b="0" lang="lv-LV" sz="1800" spc="-1" strike="noStrike">
                <a:solidFill>
                  <a:srgbClr val="1f4e79"/>
                </a:solidFill>
                <a:latin typeface="Calibri"/>
              </a:rPr>
              <a:t>., 51. lpp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programmas mērķ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2055600" y="1236600"/>
            <a:ext cx="6630840" cy="4889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lvl="1" marL="762120" indent="-292320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2060"/>
                </a:solidFill>
                <a:latin typeface="Calibri"/>
                <a:ea typeface="Times New Roman"/>
              </a:rPr>
              <a:t>stiprināt un attīstīt Ziemeļvalstu un Baltijas valstu izglītības institūciju </a:t>
            </a:r>
            <a:r>
              <a:rPr b="1" lang="lv-LV" sz="2500" spc="-1" strike="noStrike">
                <a:solidFill>
                  <a:srgbClr val="0b7d91"/>
                </a:solidFill>
                <a:latin typeface="Calibri"/>
                <a:ea typeface="Times New Roman"/>
              </a:rPr>
              <a:t>sadarbību </a:t>
            </a:r>
            <a:r>
              <a:rPr b="0" lang="lv-LV" sz="2500" spc="-1" strike="noStrike">
                <a:solidFill>
                  <a:srgbClr val="002060"/>
                </a:solidFill>
                <a:latin typeface="Calibri"/>
                <a:ea typeface="Times New Roman"/>
              </a:rPr>
              <a:t>izglītības jomā, veicinot zināšanu ieguvi, apmaiņu un sadarbības tīklu veidošanu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2060"/>
                </a:solidFill>
                <a:latin typeface="Calibri"/>
                <a:ea typeface="Times New Roman"/>
              </a:rPr>
              <a:t>uzlabot un ieviest </a:t>
            </a:r>
            <a:r>
              <a:rPr b="1" lang="lv-LV" sz="2500" spc="-1" strike="noStrike">
                <a:solidFill>
                  <a:srgbClr val="0b7d91"/>
                </a:solidFill>
                <a:latin typeface="Calibri"/>
                <a:ea typeface="Times New Roman"/>
              </a:rPr>
              <a:t>jauninājumus</a:t>
            </a: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lv-LV" sz="2500" spc="-1" strike="noStrike">
                <a:solidFill>
                  <a:srgbClr val="002060"/>
                </a:solidFill>
                <a:latin typeface="Calibri"/>
                <a:ea typeface="Times New Roman"/>
              </a:rPr>
              <a:t>Ziemeļvalstu un Baltijas valstu izglītības sistēmās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2060"/>
                </a:solidFill>
                <a:latin typeface="Calibri"/>
                <a:ea typeface="Times New Roman"/>
              </a:rPr>
              <a:t>sniegt ieguldījumu kvalitatīvā un inovatīvā </a:t>
            </a:r>
            <a:r>
              <a:rPr b="1" lang="lv-LV" sz="2500" spc="-1" strike="noStrike">
                <a:solidFill>
                  <a:srgbClr val="0b7d91"/>
                </a:solidFill>
                <a:latin typeface="Calibri"/>
                <a:ea typeface="Times New Roman"/>
              </a:rPr>
              <a:t>mūžizglītības</a:t>
            </a: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lv-LV" sz="2500" spc="-1" strike="noStrike">
                <a:solidFill>
                  <a:srgbClr val="002060"/>
                </a:solidFill>
                <a:latin typeface="Calibri"/>
                <a:ea typeface="Times New Roman"/>
              </a:rPr>
              <a:t>attīstībā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2060"/>
                </a:solidFill>
                <a:latin typeface="Calibri"/>
                <a:ea typeface="Times New Roman"/>
              </a:rPr>
              <a:t>veicināt Ziemeļvalstu kultūru un valodu apguvi, kā arī savstarpējo Ziemeļvalstu un Baltijas valstu valodu un kultūru izpratni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5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5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 Ziemeļvalstu valodu apakšprogramma</a:t>
            </a:r>
            <a:br>
              <a:rPr sz="2500"/>
            </a:b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 txBox="1"/>
          <p:nvPr/>
        </p:nvSpPr>
        <p:spPr>
          <a:xfrm>
            <a:off x="2028600" y="1331640"/>
            <a:ext cx="7027560" cy="47941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254061"/>
                </a:solidFill>
                <a:latin typeface="Calibri"/>
                <a:ea typeface="Verdana"/>
              </a:rPr>
              <a:t>Programmas mērķgru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Verdana"/>
              </a:rPr>
              <a:t>visi ieinteresētie </a:t>
            </a:r>
            <a:r>
              <a:rPr b="0" lang="lv-LV" sz="1800" spc="-1" strike="noStrike" u="sng">
                <a:solidFill>
                  <a:srgbClr val="002060"/>
                </a:solidFill>
                <a:uFillTx/>
                <a:latin typeface="Calibri"/>
                <a:ea typeface="Verdana"/>
              </a:rPr>
              <a:t>Ziemeļvalstu valodu apguvē, mācīšanā, izplatīšan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Verdana"/>
              </a:rPr>
              <a:t>      </a:t>
            </a:r>
            <a:r>
              <a:rPr b="0" lang="lv-LV" sz="1800" spc="-1" strike="noStrike" u="sng">
                <a:solidFill>
                  <a:srgbClr val="002060"/>
                </a:solidFill>
                <a:uFillTx/>
                <a:latin typeface="Calibri"/>
                <a:ea typeface="Verdana"/>
              </a:rPr>
              <a:t> </a:t>
            </a:r>
            <a:r>
              <a:rPr b="0" lang="lv-LV" sz="1800" spc="-1" strike="noStrike" u="sng">
                <a:solidFill>
                  <a:srgbClr val="002060"/>
                </a:solidFill>
                <a:uFillTx/>
                <a:latin typeface="Calibri"/>
                <a:ea typeface="Verdana"/>
              </a:rPr>
              <a:t>Ziemeļvalstu valodas </a:t>
            </a: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Verdana"/>
              </a:rPr>
              <a:t>– dāņu, somu, norvēģu, zviedru, sāmu, islandiešu, fēriešu, grenlandiešu valoda, zīmju valoda (ziemeļvalstu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254061"/>
                </a:solidFill>
                <a:latin typeface="Calibri"/>
                <a:ea typeface="Verdana"/>
              </a:rPr>
              <a:t>Atbalstāmās aktivitātes (līdz 3 gadiem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Verdana"/>
              </a:rPr>
              <a:t>mācību metožu un materiālu veidošana Ziemeļvalstu valodu apguvei, mācīšana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Verdana"/>
              </a:rPr>
              <a:t>sadarbība skolu mācību programmu attīstībai, iekļaujot tajās Ziemeļvalstu  valodu apguv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Verdana"/>
              </a:rPr>
              <a:t>projekti, kas vērsti uz sabiedrības informēšanu par projekta rezultātie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Verdana"/>
              </a:rPr>
              <a:t>konferences, seminār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Verdana"/>
              </a:rPr>
              <a:t>projekti, kas vērsti uz terminoloģijas izstrādi un vārdnīcu sagatavošanu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Verdana"/>
              </a:rPr>
              <a:t>publikācija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Verdana"/>
              </a:rPr>
              <a:t>attīstības projekti un citas aktivitātes, kas vērstas uz pedagoģisko un didaktisko metožu attīstīšanu un pilnveid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0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2214720" y="380880"/>
            <a:ext cx="64720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Ziemeļvalstu valodu projektu dalībnieki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 txBox="1"/>
          <p:nvPr/>
        </p:nvSpPr>
        <p:spPr>
          <a:xfrm>
            <a:off x="2490480" y="1626840"/>
            <a:ext cx="6195960" cy="4708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Projekta iesniedzējs un sadarbības partneri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7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Times New Roman"/>
              </a:rPr>
              <a:t>pirmsskolas izglītības iestādes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7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Times New Roman"/>
              </a:rPr>
              <a:t>pamatskolas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7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Times New Roman"/>
              </a:rPr>
              <a:t>vidusskola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7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Times New Roman"/>
              </a:rPr>
              <a:t>profesionālās izglītības iestād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7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Times New Roman"/>
              </a:rPr>
              <a:t>augstskolas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7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Times New Roman"/>
              </a:rPr>
              <a:t>zinātniskās institūcija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7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Times New Roman"/>
              </a:rPr>
              <a:t>nevalstiskās organizācija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7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Times New Roman"/>
              </a:rPr>
              <a:t>privātuzņēmumi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! </a:t>
            </a: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Projekta iesniedzējs + </a:t>
            </a:r>
            <a:r>
              <a:rPr b="1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1 sadarbības partneris </a:t>
            </a: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no divām dažādām programmas dalībvalstīm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! Nordplus programmas finansējums -  līdz 75%</a:t>
            </a: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 no aktivitāšu izmaksām, 25% - projekta īstenotāju līdzfinansējum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! </a:t>
            </a: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Pieteikumu var iesniegt arī </a:t>
            </a:r>
            <a:r>
              <a:rPr b="1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angļu valodā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3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2241360" y="365040"/>
            <a:ext cx="6273720" cy="689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</a:rPr>
              <a:t>Ziemeļvalstu valodu projektu finansējums (I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 txBox="1"/>
          <p:nvPr/>
        </p:nvSpPr>
        <p:spPr>
          <a:xfrm>
            <a:off x="1855800" y="1279080"/>
            <a:ext cx="6905520" cy="50259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254061"/>
                </a:solidFill>
                <a:latin typeface="Calibri"/>
              </a:rPr>
              <a:t>Tiešie izdevum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499"/>
              </a:spcBef>
              <a:buClr>
                <a:srgbClr val="254061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254061"/>
                </a:solidFill>
                <a:latin typeface="Calibri"/>
              </a:rPr>
              <a:t>ceļa un uzturēšanās izdevumi, telpu noma semināriem, materiālu drukāšana semināriem, samaksa vieslektoriem, specifisku darbu izpildītājie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499"/>
              </a:spcBef>
              <a:buClr>
                <a:srgbClr val="254061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254061"/>
                </a:solidFill>
                <a:latin typeface="Calibri"/>
              </a:rPr>
              <a:t>administratīvās izmaksas </a:t>
            </a:r>
            <a:r>
              <a:rPr b="1" lang="lv-LV" sz="2000" spc="-1" strike="noStrike">
                <a:solidFill>
                  <a:srgbClr val="254061"/>
                </a:solidFill>
                <a:latin typeface="Calibri"/>
              </a:rPr>
              <a:t>līdz 5% </a:t>
            </a:r>
            <a:r>
              <a:rPr b="0" lang="lv-LV" sz="2000" spc="-1" strike="noStrike">
                <a:solidFill>
                  <a:srgbClr val="254061"/>
                </a:solidFill>
                <a:latin typeface="Calibri"/>
              </a:rPr>
              <a:t>no </a:t>
            </a:r>
            <a:r>
              <a:rPr b="0" i="1" lang="lv-LV" sz="2000" spc="-1" strike="noStrike">
                <a:solidFill>
                  <a:srgbClr val="254061"/>
                </a:solidFill>
                <a:latin typeface="Calibri"/>
              </a:rPr>
              <a:t>Nordplus</a:t>
            </a:r>
            <a:r>
              <a:rPr b="0" lang="lv-LV" sz="2000" spc="-1" strike="noStrike">
                <a:solidFill>
                  <a:srgbClr val="254061"/>
                </a:solidFill>
                <a:latin typeface="Calibri"/>
              </a:rPr>
              <a:t> finansējuma projekta koordinēšanas nodrošināšanai (pamatojošie dokumenti nav nepieciešami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499"/>
              </a:spcBef>
              <a:buClr>
                <a:srgbClr val="254061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254061"/>
                </a:solidFill>
                <a:latin typeface="Calibri"/>
              </a:rPr>
              <a:t>Projektā iesaistītajiem darbiniekiem - samaksa par darbu, kas ir ieguldīts projekta izglītības rezultātu/produktu radīšanā </a:t>
            </a:r>
            <a:r>
              <a:rPr b="0" lang="lv-LV" sz="2000" spc="-1" strike="noStrike">
                <a:solidFill>
                  <a:srgbClr val="254061"/>
                </a:solidFill>
                <a:latin typeface="Calibri"/>
              </a:rPr>
              <a:t>(mācību programma, mācību līdzekļi, mācību metodes utt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6" name="Picture 2" descr=""/>
          <p:cNvPicPr/>
          <p:nvPr/>
        </p:nvPicPr>
        <p:blipFill>
          <a:blip r:embed="rId1"/>
          <a:stretch/>
        </p:blipFill>
        <p:spPr>
          <a:xfrm>
            <a:off x="1490760" y="1712880"/>
            <a:ext cx="7653240" cy="3576600"/>
          </a:xfrm>
          <a:prstGeom prst="rect">
            <a:avLst/>
          </a:prstGeom>
          <a:ln w="0">
            <a:noFill/>
          </a:ln>
        </p:spPr>
      </p:pic>
      <p:sp>
        <p:nvSpPr>
          <p:cNvPr id="887" name="Rectangle 2"/>
          <p:cNvSpPr/>
          <p:nvPr/>
        </p:nvSpPr>
        <p:spPr>
          <a:xfrm>
            <a:off x="136440" y="2739960"/>
            <a:ext cx="144936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1f4e79"/>
                </a:solidFill>
                <a:latin typeface="Calibri"/>
              </a:rPr>
              <a:t> </a:t>
            </a:r>
            <a:r>
              <a:rPr b="0" i="1" lang="lv-LV" sz="1800" spc="-1" strike="noStrike">
                <a:solidFill>
                  <a:srgbClr val="1f4e79"/>
                </a:solidFill>
                <a:latin typeface="Calibri"/>
              </a:rPr>
              <a:t>Budžeta sadaļa projekta pieteikuma veidlapā, Espresso sistēma https://espresso.siu.no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2241360" y="365040"/>
            <a:ext cx="6273720" cy="689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</a:rPr>
              <a:t>Ziemeļvalstu valodu projektu finansējums (II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9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590560" y="380520"/>
            <a:ext cx="6095880" cy="621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Informācijas avoti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 txBox="1"/>
          <p:nvPr/>
        </p:nvSpPr>
        <p:spPr>
          <a:xfrm>
            <a:off x="1782720" y="861840"/>
            <a:ext cx="7361280" cy="5477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Programmas oficiālā mājas lapa,  – www.nordplusonline.org, projektu piemēri - https://www.nordplusonline.org/projects/project-stories/ 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i="1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Tiešsaistes sistēma </a:t>
            </a:r>
            <a:r>
              <a:rPr b="0" i="1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Espresso</a:t>
            </a: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 (pieteikumu aizpildīšana un iesniegšana) – http://espresso.siu.no/espress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VIAA mājas lapa – sadaļa “Nordplus” -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Partneru meklēšan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Nordplus partneru meklēšanas datu bāze https://www.nordplusonline.org/projects/partner-search/#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Skolu izglītības sektorā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eTwinning:</a:t>
            </a: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https://www.etwinning.net/en/pub/index.htm 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Schoolgateway:</a:t>
            </a: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https://login.schoolgateway.com/0/auth/log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Pieaugušo izglītības sektorā: </a:t>
            </a:r>
            <a:r>
              <a:rPr b="1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EPALE: </a:t>
            </a: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https://ec.europa.eu/epale/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	</a:t>
            </a: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	</a:t>
            </a: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	</a:t>
            </a: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	</a:t>
            </a: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http://www.muzizglitiba.lv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"/>
          <p:cNvSpPr txBox="1"/>
          <p:nvPr/>
        </p:nvSpPr>
        <p:spPr>
          <a:xfrm>
            <a:off x="1393560" y="1166760"/>
            <a:ext cx="7132680" cy="4759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60360" indent="-36036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3200" spc="-1" strike="noStrike">
                <a:solidFill>
                  <a:srgbClr val="0b7d91"/>
                </a:solidFill>
                <a:latin typeface="Calibri"/>
                <a:ea typeface="Verdana"/>
              </a:rPr>
              <a:t>Kontaktinformā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Linards Deidu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i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Nordplus</a:t>
            </a: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 program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tālr. 67830837, 29554403 (GSM, WhatsAp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Linards.deidulis@viaa.gov.l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Skype: linards.deidu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Espresso sistēmas administrators Norvēģijā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Frank Krohn: frank.krohn@hkdir.n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3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2386080" y="380880"/>
            <a:ext cx="630072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GB" sz="2900" spc="-1" strike="noStrike">
                <a:solidFill>
                  <a:srgbClr val="0b7d91"/>
                </a:solidFill>
                <a:latin typeface="Verdana"/>
                <a:ea typeface="Verdana"/>
              </a:rPr>
              <a:t>Nordplus </a:t>
            </a:r>
            <a:r>
              <a:rPr b="1" lang="lv-LV" sz="2900" spc="-1" strike="noStrike">
                <a:solidFill>
                  <a:srgbClr val="0b7d91"/>
                </a:solidFill>
                <a:latin typeface="Verdana"/>
                <a:ea typeface="Verdana"/>
              </a:rPr>
              <a:t>dalībvalstis un aktivitāt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4138560" y="1417320"/>
            <a:ext cx="4548240" cy="4708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Verdana"/>
                <a:ea typeface="Verdana"/>
              </a:rPr>
              <a:t>Dalībvalst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Ziemeļvalstis un Baltijas valstis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: Dānija (arī Grenlande un Fēru salas), Somija, (arī Ālandu salas), Islande, Norvēģija, Zviedrija, Latvija, Lietuva un Igaunij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Verdana"/>
                <a:ea typeface="Verdana"/>
              </a:rPr>
              <a:t>Atbalstu piešķir šādiem projektu veidie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Verdana"/>
                <a:ea typeface="Verdana"/>
              </a:rPr>
              <a:t>Mobilitātē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Verdana"/>
                <a:ea typeface="Verdana"/>
              </a:rPr>
              <a:t>Projekti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Verdana"/>
                <a:ea typeface="Verdana"/>
              </a:rPr>
              <a:t>Sadarbības tīkli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i="1" lang="lv-LV" sz="2000" spc="-1" strike="noStrike">
                <a:solidFill>
                  <a:srgbClr val="002060"/>
                </a:solidFill>
                <a:latin typeface="Verdana"/>
                <a:ea typeface="Verdana"/>
              </a:rPr>
              <a:t>  </a:t>
            </a:r>
            <a:r>
              <a:rPr b="1" i="1" lang="lv-LV" sz="2000" spc="-1" strike="noStrike">
                <a:solidFill>
                  <a:srgbClr val="002060"/>
                </a:solidFill>
                <a:latin typeface="Verdana"/>
                <a:ea typeface="Verdana"/>
              </a:rPr>
              <a:t>Sagatavošanas vizītes </a:t>
            </a:r>
            <a:r>
              <a:rPr b="0" i="1" lang="lv-LV" sz="2000" spc="-1" strike="noStrike">
                <a:solidFill>
                  <a:srgbClr val="002060"/>
                </a:solidFill>
                <a:latin typeface="Verdana"/>
                <a:ea typeface="Verdana"/>
              </a:rPr>
              <a:t>ir viens no mobilitātes projektu veidiem</a:t>
            </a:r>
            <a:r>
              <a:rPr b="1" i="1" lang="lv-LV" sz="2000" spc="-1" strike="noStrike">
                <a:solidFill>
                  <a:srgbClr val="002060"/>
                </a:solidFill>
                <a:latin typeface="Verdana"/>
                <a:ea typeface="Verdan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8" name="Picture 3" descr=""/>
          <p:cNvPicPr/>
          <p:nvPr/>
        </p:nvPicPr>
        <p:blipFill>
          <a:blip r:embed="rId1"/>
          <a:stretch/>
        </p:blipFill>
        <p:spPr>
          <a:xfrm>
            <a:off x="85680" y="5925960"/>
            <a:ext cx="2413080" cy="81936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2" descr=""/>
          <p:cNvPicPr/>
          <p:nvPr/>
        </p:nvPicPr>
        <p:blipFill>
          <a:blip r:embed="rId2"/>
          <a:stretch/>
        </p:blipFill>
        <p:spPr>
          <a:xfrm>
            <a:off x="264960" y="1916280"/>
            <a:ext cx="350388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sagatavošanas vizītes</a:t>
            </a: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2012760" y="1252440"/>
            <a:ext cx="6870600" cy="2176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2060"/>
                </a:solidFill>
                <a:latin typeface="Calibri"/>
                <a:ea typeface="Verdana"/>
              </a:rPr>
              <a:t>Sniedz iespēju </a:t>
            </a:r>
            <a:r>
              <a:rPr b="1" lang="lv-LV" sz="3000" spc="-1" strike="noStrike">
                <a:solidFill>
                  <a:srgbClr val="002060"/>
                </a:solidFill>
                <a:latin typeface="Calibri"/>
                <a:ea typeface="Verdana"/>
              </a:rPr>
              <a:t>tikties potenciālā projekta partneriem pieteikumu sagatavošanai Jauniešu, Pieaugušo izglītības un Ziemeļvalstu valodu </a:t>
            </a:r>
            <a:r>
              <a:rPr b="0" lang="lv-LV" sz="3000" spc="-1" strike="noStrike">
                <a:solidFill>
                  <a:srgbClr val="002060"/>
                </a:solidFill>
                <a:latin typeface="Calibri"/>
                <a:ea typeface="Verdana"/>
              </a:rPr>
              <a:t>apakšprogrammās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2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pic>
        <p:nvPicPr>
          <p:cNvPr id="793" name="Picture 2" descr=""/>
          <p:cNvPicPr/>
          <p:nvPr/>
        </p:nvPicPr>
        <p:blipFill>
          <a:blip r:embed="rId2"/>
          <a:stretch/>
        </p:blipFill>
        <p:spPr>
          <a:xfrm>
            <a:off x="0" y="4168800"/>
            <a:ext cx="9212400" cy="1757160"/>
          </a:xfrm>
          <a:prstGeom prst="rect">
            <a:avLst/>
          </a:prstGeom>
          <a:ln w="0">
            <a:noFill/>
          </a:ln>
        </p:spPr>
      </p:pic>
      <p:pic>
        <p:nvPicPr>
          <p:cNvPr id="794" name="Picture 4" descr=""/>
          <p:cNvPicPr/>
          <p:nvPr/>
        </p:nvPicPr>
        <p:blipFill>
          <a:blip r:embed="rId3"/>
          <a:stretch/>
        </p:blipFill>
        <p:spPr>
          <a:xfrm>
            <a:off x="77760" y="2076480"/>
            <a:ext cx="188136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603160" y="45864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2018-2022</a:t>
            </a: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1828440" y="992160"/>
            <a:ext cx="7094520" cy="51609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 fontScale="96000"/>
          </a:bodyPr>
          <a:p>
            <a:pPr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2022.gada Nordplus projektu konkursu plānots izsludināt </a:t>
            </a: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2021.gada 1.novembrī 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(paredzamais projektu iesniegšanas termiņš</a:t>
            </a: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 2022.gada 1.februāri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 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2021.- 2022. gada konkursos projekti tiek aicināti  uzsvērt </a:t>
            </a:r>
            <a:r>
              <a:rPr b="1" lang="lv-LV" sz="2200" spc="-1" strike="noStrike">
                <a:solidFill>
                  <a:srgbClr val="009a00"/>
                </a:solidFill>
                <a:latin typeface="Calibri"/>
                <a:ea typeface="Verdana"/>
              </a:rPr>
              <a:t>vides, ilgtspējīgas attīstības, zaļās  ekonomikas un ar to saistīto inovāciju attīstību.</a:t>
            </a:r>
            <a:r>
              <a:rPr b="1" lang="ru-RU" sz="2200" spc="-1" strike="noStrike">
                <a:solidFill>
                  <a:srgbClr val="009a00"/>
                </a:solidFill>
                <a:latin typeface="Calibri"/>
                <a:ea typeface="Verdana"/>
              </a:rPr>
              <a:t> </a:t>
            </a:r>
            <a:r>
              <a:rPr b="0" lang="ru-RU" sz="2200" spc="-1" strike="noStrike">
                <a:solidFill>
                  <a:srgbClr val="009a00"/>
                </a:solidFill>
                <a:latin typeface="Calibri"/>
                <a:ea typeface="Verdana"/>
              </a:rPr>
              <a:t>(</a:t>
            </a:r>
            <a:r>
              <a:rPr b="0" lang="en-US" sz="2200" spc="-1" strike="noStrike">
                <a:solidFill>
                  <a:srgbClr val="009a00"/>
                </a:solidFill>
                <a:latin typeface="Calibri"/>
                <a:ea typeface="Verdana"/>
              </a:rPr>
              <a:t>“Enhancing Educational Cooperation for a Greener Future” 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Galvenais dokuments projektu sagatavotājiem  - </a:t>
            </a:r>
            <a:r>
              <a:rPr b="1" lang="lv-LV" sz="2200" spc="-1" strike="noStrike" u="sng">
                <a:solidFill>
                  <a:srgbClr val="002060"/>
                </a:solidFill>
                <a:uFillTx/>
                <a:latin typeface="Calibri"/>
                <a:ea typeface="Verdana"/>
              </a:rPr>
              <a:t>2022. gada Nordplus rokasgrāmata 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tiks publicēta Nordplus oficiālajā mājas lapā pēc  2022. gada konkursa izsludināšana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2021.gada Nordplus rokasgrāmata (angļu valodā) pieejama: https://www.nordplusonline.org/How-to-apply/HANDBOOK#pdf_fr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7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2603160" y="45864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5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r>
              <a:rPr b="1" lang="lv-LV" sz="2500" spc="-1" strike="noStrike" u="sng">
                <a:solidFill>
                  <a:srgbClr val="009a00"/>
                </a:solidFill>
                <a:uFillTx/>
                <a:latin typeface="Verdana"/>
                <a:ea typeface="Verdana"/>
              </a:rPr>
              <a:t>2020. 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gada projektu konkursa rezultātu kopsavilkums programmas oficiālajā portālā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2344680" y="2371320"/>
            <a:ext cx="6354720" cy="4264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264960" indent="-264960" algn="just">
              <a:lnSpc>
                <a:spcPct val="8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 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2021. gadā no visām 8 programmas dalībvalstīm tika </a:t>
            </a:r>
            <a:r>
              <a:rPr b="0" lang="lv-LV" sz="2200" spc="-1" strike="noStrike" u="sng">
                <a:solidFill>
                  <a:srgbClr val="002060"/>
                </a:solidFill>
                <a:uFillTx/>
                <a:latin typeface="Calibri"/>
                <a:ea typeface="Verdana"/>
              </a:rPr>
              <a:t>iesniegti </a:t>
            </a: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331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 projektu pieteikumi ar kopējo pieprasīto grantu 14, 84 milj. eu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2021. gadā kopumā 8 programmas dalībvalstīs tika </a:t>
            </a:r>
            <a:r>
              <a:rPr b="0" lang="lv-LV" sz="2200" spc="-1" strike="noStrike" u="sng">
                <a:solidFill>
                  <a:srgbClr val="002060"/>
                </a:solidFill>
                <a:uFillTx/>
                <a:latin typeface="Calibri"/>
                <a:ea typeface="Verdana"/>
              </a:rPr>
              <a:t>apstiprināti </a:t>
            </a: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 256 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projektu pieteikumi (77%) ar kopējo piešķirto grantu </a:t>
            </a: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8,59 milj. eu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Detalizēta informācija par 2021. gada projektu konkursa rezultātiem pieejama Nordplus programmas oficiālajā portālā </a:t>
            </a:r>
            <a:r>
              <a:rPr b="0" lang="lv-LV" sz="2200" spc="-1" strike="noStrike">
                <a:solidFill>
                  <a:srgbClr val="000000"/>
                </a:solidFill>
                <a:latin typeface="Verdana"/>
                <a:ea typeface="Verdana"/>
              </a:rPr>
              <a:t>https://www.nordplusonline.org/news/nordplus-overview/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0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pic>
        <p:nvPicPr>
          <p:cNvPr id="801" name="Picture 5" descr="A picture containing text, indoor, person&#10;&#10;Description automatically generated"/>
          <p:cNvPicPr/>
          <p:nvPr/>
        </p:nvPicPr>
        <p:blipFill>
          <a:blip r:embed="rId2"/>
          <a:stretch/>
        </p:blipFill>
        <p:spPr>
          <a:xfrm>
            <a:off x="190440" y="2446200"/>
            <a:ext cx="230040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DAC16F5-7973-444A-8A0F-5175D6F30CD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2276280" y="458640"/>
            <a:ext cx="64227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2021.gada projektu konkursa  rezultāti </a:t>
            </a:r>
            <a:r>
              <a:rPr b="1" lang="lv-LV" sz="2800" spc="-1" strike="noStrike" u="sng">
                <a:solidFill>
                  <a:srgbClr val="0b7d91"/>
                </a:solidFill>
                <a:uFillTx/>
                <a:latin typeface="Verdana"/>
                <a:ea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4" name=""/>
          <p:cNvGraphicFramePr/>
          <p:nvPr/>
        </p:nvGraphicFramePr>
        <p:xfrm>
          <a:off x="244440" y="1963800"/>
          <a:ext cx="8745480" cy="3740040"/>
        </p:xfrm>
        <a:graphic>
          <a:graphicData uri="http://schemas.openxmlformats.org/drawingml/2006/table">
            <a:tbl>
              <a:tblPr/>
              <a:tblGrid>
                <a:gridCol w="1249560"/>
                <a:gridCol w="1249200"/>
                <a:gridCol w="1249200"/>
                <a:gridCol w="1249560"/>
                <a:gridCol w="1378080"/>
                <a:gridCol w="1120680"/>
                <a:gridCol w="1249200"/>
              </a:tblGrid>
              <a:tr h="132048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pakšprogram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Kopējais iesniegtais 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rojektu pieteikumu ska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Kopējais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finansētais 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projektu ska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V koordinatoru </a:t>
                      </a:r>
                      <a:r>
                        <a:rPr b="1" lang="lv-LV" sz="1600" spc="-1" strike="noStrike" u="sng">
                          <a:solidFill>
                            <a:srgbClr val="002060"/>
                          </a:solidFill>
                          <a:uFillTx/>
                          <a:latin typeface="Calibri"/>
                          <a:ea typeface="Calibri"/>
                        </a:rPr>
                        <a:t>iesniegto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projektu ska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dca8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V koordinatoru </a:t>
                      </a:r>
                      <a:r>
                        <a:rPr b="1" lang="lv-LV" sz="1600" spc="-1" strike="noStrike" u="sng">
                          <a:solidFill>
                            <a:srgbClr val="002060"/>
                          </a:solidFill>
                          <a:uFillTx/>
                          <a:latin typeface="Calibri"/>
                          <a:ea typeface="Calibri"/>
                        </a:rPr>
                        <a:t>finansēto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 projektu ska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dca8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V %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no kopējā finansēto projektu skai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dca8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V koordinēto projektu budžets (EU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dca8"/>
                    </a:solidFill>
                  </a:tcPr>
                </a:tc>
              </a:tr>
              <a:tr h="6058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9a00"/>
                          </a:solidFill>
                          <a:latin typeface="Calibri"/>
                          <a:ea typeface="Calibri"/>
                        </a:rPr>
                        <a:t>Pieaugušo izglītīb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9a00"/>
                          </a:solidFill>
                          <a:latin typeface="Calibri"/>
                          <a:ea typeface="Calibri"/>
                        </a:rPr>
                        <a:t>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9a00"/>
                          </a:solidFill>
                          <a:latin typeface="Calibri"/>
                          <a:ea typeface="Calibri"/>
                        </a:rPr>
                        <a:t>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9a00"/>
                          </a:solidFill>
                          <a:latin typeface="Calibri"/>
                          <a:ea typeface="Calibri"/>
                        </a:rPr>
                        <a:t>26 (33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9a00"/>
                          </a:solidFill>
                          <a:latin typeface="Calibri"/>
                          <a:ea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9a00"/>
                          </a:solidFill>
                          <a:latin typeface="Calibri"/>
                          <a:ea typeface="Calibri"/>
                        </a:rPr>
                        <a:t>3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9a00"/>
                          </a:solidFill>
                          <a:latin typeface="Calibri"/>
                          <a:ea typeface="Calibri"/>
                        </a:rPr>
                        <a:t>5147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Jaunieš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5 (22 %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397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8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ugstākās izglītīb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1 (8%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368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Horizontāl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 (10%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189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Valod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 (4,5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7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KOP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6 (17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9</a:t>
                      </a: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 147 73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Title 1"/>
          <p:cNvSpPr/>
          <p:nvPr/>
        </p:nvSpPr>
        <p:spPr>
          <a:xfrm>
            <a:off x="2292480" y="473040"/>
            <a:ext cx="624204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Verdana"/>
              </a:rPr>
              <a:t>Nordplus programmas atbalstīto projektu skaits un piešķirtais finansējums Latvijas organizācijām 2008. – 2021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Text Placeholder 3"/>
          <p:cNvSpPr/>
          <p:nvPr/>
        </p:nvSpPr>
        <p:spPr>
          <a:xfrm flipV="1" rot="10800000">
            <a:off x="0" y="5979960"/>
            <a:ext cx="914400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Kopumā visās Nordplus apakšprogrammās no 2008. līdz 2021. gadam apstiprināti </a:t>
            </a:r>
            <a:r>
              <a:rPr b="1" lang="lv-LV" sz="1500" spc="-1" strike="noStrike">
                <a:solidFill>
                  <a:srgbClr val="002060"/>
                </a:solidFill>
                <a:latin typeface="Verdana"/>
              </a:rPr>
              <a:t>497 </a:t>
            </a: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Latvijas</a:t>
            </a:r>
            <a:r>
              <a:rPr b="1" lang="lv-LV" sz="15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iesniedzēju (koordinatoru) projekti par kopējo summu ~ </a:t>
            </a:r>
            <a:r>
              <a:rPr b="1" lang="lv-LV" sz="1500" spc="-1" strike="noStrike">
                <a:solidFill>
                  <a:srgbClr val="002060"/>
                </a:solidFill>
                <a:latin typeface="Verdana"/>
              </a:rPr>
              <a:t>9 miljoni eiro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7" name="Chart 4" descr=""/>
          <p:cNvPicPr/>
          <p:nvPr/>
        </p:nvPicPr>
        <p:blipFill>
          <a:blip r:embed="rId1"/>
          <a:stretch/>
        </p:blipFill>
        <p:spPr>
          <a:xfrm>
            <a:off x="158760" y="1652760"/>
            <a:ext cx="8862840" cy="41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14:46:47Z</dcterms:created>
  <dc:creator>Dagnija</dc:creator>
  <dc:description/>
  <dc:language>en-US</dc:language>
  <cp:lastModifiedBy>Linards Deidulis</cp:lastModifiedBy>
  <cp:lastPrinted>2019-09-16T10:27:40Z</cp:lastPrinted>
  <dcterms:modified xsi:type="dcterms:W3CDTF">2021-09-07T10:35:50Z</dcterms:modified>
  <cp:revision>226</cp:revision>
  <dc:subject/>
  <dc:title>PowerPoint Presentation</dc:title>
</cp:coreProperties>
</file>